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530B-6642-4B01-BC19-BB7E4925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3E8B-5D05-4D25-A9CE-11888F21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166F-C546-4866-980D-D8453C44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2DB0-6C6A-40DC-94F2-92469D66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3523-54EA-4838-8BBF-19856287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4AA3-6F93-4FE3-AFB3-E8140DEE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544-FBD1-40FD-8131-FBB0E733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0311-67F2-4A3D-8434-82C4D38C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7FDF-B5F2-4ECB-80BC-3C31DC2A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6A90-B216-477C-8BBC-65E923A6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789-E35D-42B6-9AED-2E8E04F3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2301-D5EA-4104-847E-0F9AB894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C880-0964-4C54-9CB5-17013AF6CD6D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REGLAMENTO COMERCIOS Y SERVICI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45656" t="25221" r="664" b="6250"/>
          <a:stretch/>
        </p:blipFill>
        <p:spPr>
          <a:xfrm>
            <a:off x="395280" y="404640"/>
            <a:ext cx="8280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45656" t="22269" r="664" b="6250"/>
          <a:stretch/>
        </p:blipFill>
        <p:spPr>
          <a:xfrm>
            <a:off x="0" y="0"/>
            <a:ext cx="7694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45103" t="24237" r="664" b="12766"/>
          <a:stretch/>
        </p:blipFill>
        <p:spPr>
          <a:xfrm>
            <a:off x="324000" y="836640"/>
            <a:ext cx="61927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3T15:57:16Z</dcterms:created>
  <dc:creator>Impacto</dc:creator>
  <dc:description/>
  <dc:language>en-US</dc:language>
  <cp:lastModifiedBy>Impacto</cp:lastModifiedBy>
  <dcterms:modified xsi:type="dcterms:W3CDTF">2020-10-13T16:12:43Z</dcterms:modified>
  <cp:revision>1</cp:revision>
  <dc:subject/>
  <dc:title>REGLAMENTO COMERCIOS Y SERVICIO.</dc:title>
</cp:coreProperties>
</file>